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0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37D-B0CC-45D6-A743-DFD24F98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D4F-7807-4CBA-85AB-679A6A4D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568-8B93-4627-8542-310D3B80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03F-C7BF-423D-9D69-B9F83F9C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8650-07AB-415B-B72C-3356B1BD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B52-2E35-4328-80D1-084E4A7D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DA1-3922-4B23-A933-56668FD6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6E6-64F5-47A1-B31A-D0B46D49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46B-494A-4E07-BAE0-A8D6E255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DED2-B090-4B27-A902-64262C9B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147-02DF-4E8C-8E1E-32DE6F83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896-7F81-441C-A46A-8054783B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8756-1AE1-45EC-8E9C-1C945FB7E7A2}" type="slidenum">
              <a:rPr b="0" lang="ru-RU" sz="14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Bookman Old Style"/>
              </a:rPr>
              <a:t>Кем стать?</a:t>
            </a:r>
            <a:endParaRPr b="0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2" name="Picture 6" descr="kadr"/>
          <p:cNvPicPr/>
          <p:nvPr/>
        </p:nvPicPr>
        <p:blipFill>
          <a:blip r:embed="rId1"/>
          <a:stretch/>
        </p:blipFill>
        <p:spPr>
          <a:xfrm>
            <a:off x="1508040" y="1771560"/>
            <a:ext cx="630396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man Old Style"/>
              </a:rPr>
              <a:t>Работа – это …</a:t>
            </a:r>
            <a:endParaRPr b="0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Деньги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Карьера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Творчество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78000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5" name="Picture 5" descr="bd07032_"/>
          <p:cNvPicPr/>
          <p:nvPr/>
        </p:nvPicPr>
        <p:blipFill>
          <a:blip r:embed="rId1"/>
          <a:stretch/>
        </p:blipFill>
        <p:spPr>
          <a:xfrm>
            <a:off x="5364000" y="1484280"/>
            <a:ext cx="1692360" cy="1832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j0195384"/>
          <p:cNvPicPr/>
          <p:nvPr/>
        </p:nvPicPr>
        <p:blipFill>
          <a:blip r:embed="rId2"/>
          <a:stretch/>
        </p:blipFill>
        <p:spPr>
          <a:xfrm>
            <a:off x="7020000" y="278136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j0345312"/>
          <p:cNvPicPr/>
          <p:nvPr/>
        </p:nvPicPr>
        <p:blipFill>
          <a:blip r:embed="rId3"/>
          <a:stretch/>
        </p:blipFill>
        <p:spPr>
          <a:xfrm>
            <a:off x="5003640" y="4221000"/>
            <a:ext cx="189576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2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3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Результативное обучение в школе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Изучение самого себя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Выбор направления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Выбор ВУЗА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Подготовка к поступлению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971640" y="333360"/>
            <a:ext cx="7129440" cy="15829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то делать? 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              </a:t>
            </a: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Как быть?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4259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ookman Old Style"/>
              </a:rPr>
              <a:t>Поздравляя друг друга с праздником, чаще всего мы желаем успехов в работе. Именно с работой и карьерой мы связываем успешность и благополучие в жизни</a:t>
            </a:r>
            <a:r>
              <a:rPr b="0" i="1" lang="ru-RU" sz="2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5" name="Picture 7" descr="j0230785"/>
          <p:cNvPicPr/>
          <p:nvPr/>
        </p:nvPicPr>
        <p:blipFill>
          <a:blip r:embed="rId1"/>
          <a:stretch/>
        </p:blipFill>
        <p:spPr>
          <a:xfrm>
            <a:off x="5160960" y="1413000"/>
            <a:ext cx="322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man Old Style"/>
              </a:rPr>
              <a:t>             </a:t>
            </a:r>
            <a:r>
              <a:rPr b="1" lang="ru-RU" sz="4000" spc="-1" strike="noStrike">
                <a:solidFill>
                  <a:srgbClr val="008000"/>
                </a:solidFill>
                <a:latin typeface="Bookman Old Style"/>
              </a:rPr>
              <a:t>Кем стать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О выборе профессии наши дети начали задумываться уже сейчас.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7" name="Picture 6" descr="j0344939"/>
          <p:cNvPicPr/>
          <p:nvPr/>
        </p:nvPicPr>
        <p:blipFill>
          <a:blip r:embed="rId1"/>
          <a:stretch/>
        </p:blipFill>
        <p:spPr>
          <a:xfrm>
            <a:off x="5003640" y="2852640"/>
            <a:ext cx="23115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826920" y="404640"/>
            <a:ext cx="7345440" cy="1584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Bookman Old Style"/>
              </a:rPr>
              <a:t>Типология профессий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Bookman Old Style"/>
              </a:rPr>
              <a:t>(по Климову Е.А.)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684360" y="2492280"/>
            <a:ext cx="2303280" cy="8654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человек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3419640" y="2492280"/>
            <a:ext cx="2232000" cy="8654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техника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>
            <a:off x="6012000" y="2492280"/>
            <a:ext cx="2160360" cy="8654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знак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1763640" y="4653000"/>
            <a:ext cx="2448000" cy="9367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искусство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5003640" y="4581360"/>
            <a:ext cx="2449800" cy="9367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природа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Медицина: врач, медсестра, санитар…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Обучение и воспитание: учитель, тренер…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Бытовое обслуживание: продавец, проводник, официант…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826920" y="476280"/>
            <a:ext cx="7417080" cy="9367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- человек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8" name="Picture 14" descr="j0301222"/>
          <p:cNvPicPr/>
          <p:nvPr/>
        </p:nvPicPr>
        <p:blipFill>
          <a:blip r:embed="rId1"/>
          <a:stretch/>
        </p:blipFill>
        <p:spPr>
          <a:xfrm>
            <a:off x="4643280" y="1628640"/>
            <a:ext cx="1636920" cy="165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bd07213_"/>
          <p:cNvPicPr/>
          <p:nvPr/>
        </p:nvPicPr>
        <p:blipFill>
          <a:blip r:embed="rId2"/>
          <a:stretch/>
        </p:blipFill>
        <p:spPr>
          <a:xfrm>
            <a:off x="6588000" y="2781360"/>
            <a:ext cx="1563840" cy="190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j0196234"/>
          <p:cNvPicPr/>
          <p:nvPr/>
        </p:nvPicPr>
        <p:blipFill>
          <a:blip r:embed="rId3"/>
          <a:stretch/>
        </p:blipFill>
        <p:spPr>
          <a:xfrm>
            <a:off x="4140360" y="4581360"/>
            <a:ext cx="18000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8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- техника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Эксплуатация технических средств: водитель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швея 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79640" y="4149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Ремонт техники: механик, электромонтер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онтаж, наладка технических устройств: сварщик,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инженер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6" name="Picture 11" descr="j0296062"/>
          <p:cNvPicPr/>
          <p:nvPr/>
        </p:nvPicPr>
        <p:blipFill>
          <a:blip r:embed="rId1"/>
          <a:stretch/>
        </p:blipFill>
        <p:spPr>
          <a:xfrm>
            <a:off x="5003640" y="4221000"/>
            <a:ext cx="1729080" cy="149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j0234315"/>
          <p:cNvPicPr/>
          <p:nvPr/>
        </p:nvPicPr>
        <p:blipFill>
          <a:blip r:embed="rId2"/>
          <a:stretch/>
        </p:blipFill>
        <p:spPr>
          <a:xfrm>
            <a:off x="6443640" y="2421000"/>
            <a:ext cx="2160720" cy="1582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j0310264"/>
          <p:cNvPicPr/>
          <p:nvPr/>
        </p:nvPicPr>
        <p:blipFill>
          <a:blip r:embed="rId3"/>
          <a:stretch/>
        </p:blipFill>
        <p:spPr>
          <a:xfrm>
            <a:off x="2124000" y="2421000"/>
            <a:ext cx="19432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8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– знак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Тексты: корректор, машинистка, библиотекарь, переводчик 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Цифры, формулы, таблицы: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бухгалтер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экономист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42206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Чертежи, карты, схемы: чертежник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штурман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2920" y="4149360"/>
            <a:ext cx="403884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Звуковые сигналы: телефонист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радист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4" name="Picture 9" descr="j0303469"/>
          <p:cNvPicPr/>
          <p:nvPr/>
        </p:nvPicPr>
        <p:blipFill>
          <a:blip r:embed="rId1"/>
          <a:stretch/>
        </p:blipFill>
        <p:spPr>
          <a:xfrm>
            <a:off x="2987640" y="2205000"/>
            <a:ext cx="1800360" cy="1434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j0195300"/>
          <p:cNvPicPr/>
          <p:nvPr/>
        </p:nvPicPr>
        <p:blipFill>
          <a:blip r:embed="rId2"/>
          <a:stretch/>
        </p:blipFill>
        <p:spPr>
          <a:xfrm>
            <a:off x="2700360" y="4724280"/>
            <a:ext cx="1308240" cy="1670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j0343491"/>
          <p:cNvPicPr/>
          <p:nvPr/>
        </p:nvPicPr>
        <p:blipFill>
          <a:blip r:embed="rId3"/>
          <a:stretch/>
        </p:blipFill>
        <p:spPr>
          <a:xfrm>
            <a:off x="7020000" y="2205000"/>
            <a:ext cx="1779480" cy="153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j0230752"/>
          <p:cNvPicPr/>
          <p:nvPr/>
        </p:nvPicPr>
        <p:blipFill>
          <a:blip r:embed="rId4"/>
          <a:stretch/>
        </p:blipFill>
        <p:spPr>
          <a:xfrm>
            <a:off x="6757920" y="4581360"/>
            <a:ext cx="173988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28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вязанные с созданием, проектированием, моделированием произведений искусства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композитор,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удожник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вязанные с воспроизведением и изготовлением произведений искусств: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ювелир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актер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цветовод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декоратор 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900000" y="333360"/>
            <a:ext cx="7344000" cy="1079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- искусство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2" name="Picture 8" descr="j0240481"/>
          <p:cNvPicPr/>
          <p:nvPr/>
        </p:nvPicPr>
        <p:blipFill>
          <a:blip r:embed="rId1"/>
          <a:stretch/>
        </p:blipFill>
        <p:spPr>
          <a:xfrm>
            <a:off x="2411280" y="3789360"/>
            <a:ext cx="2016360" cy="19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j0324708"/>
          <p:cNvPicPr/>
          <p:nvPr/>
        </p:nvPicPr>
        <p:blipFill>
          <a:blip r:embed="rId2"/>
          <a:stretch/>
        </p:blipFill>
        <p:spPr>
          <a:xfrm>
            <a:off x="6588000" y="3429000"/>
            <a:ext cx="2260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Изучение живой и неживой природы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икробиолог,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агрохимик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4920" y="4149360"/>
            <a:ext cx="569916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Уход за растениями, животными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лесовод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вощевод,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зоотехник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рофилактика и лечение заболеваний растений и животных: ветеринар, селекционер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403280" y="333360"/>
            <a:ext cx="6840720" cy="1079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- природа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9" name="Picture 9" descr="j0295888"/>
          <p:cNvPicPr/>
          <p:nvPr/>
        </p:nvPicPr>
        <p:blipFill>
          <a:blip r:embed="rId1"/>
          <a:stretch/>
        </p:blipFill>
        <p:spPr>
          <a:xfrm>
            <a:off x="2771640" y="2492280"/>
            <a:ext cx="1327320" cy="1640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j0160614"/>
          <p:cNvPicPr/>
          <p:nvPr/>
        </p:nvPicPr>
        <p:blipFill>
          <a:blip r:embed="rId2"/>
          <a:stretch/>
        </p:blipFill>
        <p:spPr>
          <a:xfrm>
            <a:off x="2700360" y="4797360"/>
            <a:ext cx="2305080" cy="140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j0216724"/>
          <p:cNvPicPr/>
          <p:nvPr/>
        </p:nvPicPr>
        <p:blipFill>
          <a:blip r:embed="rId3"/>
          <a:stretch/>
        </p:blipFill>
        <p:spPr>
          <a:xfrm>
            <a:off x="6443640" y="3716280"/>
            <a:ext cx="1947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3:11:38Z</dcterms:created>
  <dc:creator>PC</dc:creator>
  <dc:description/>
  <dc:language>en-US</dc:language>
  <cp:lastModifiedBy>USER</cp:lastModifiedBy>
  <dcterms:modified xsi:type="dcterms:W3CDTF">2013-03-01T12:30:38Z</dcterms:modified>
  <cp:revision>8</cp:revision>
  <dc:subject/>
  <dc:title>Кем стать?</dc:title>
</cp:coreProperties>
</file>